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AC9-C88F-4079-976D-5CEFA5CF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D7A-2982-44A5-8B03-E966B30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28501-CC0C-42FC-9C0F-BC8124B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66946-4E7C-4538-87D3-F231A38F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F2E2-71FA-4598-8EA5-F15455F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6765-E193-42B4-BAAA-D9C725B7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22EA8-A210-4E04-B226-EFA100D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1162A-E029-46E5-B9E0-6E8E973D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86067-4430-4568-A99E-206D9E65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9133-7004-47FF-9CE4-6D6E53CB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54EED-F93B-475D-A379-5B74A3B8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66AC3-DCDB-4F3B-BADF-3259C3E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0CB-C560-4A7E-A58D-F469280F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13CB9-EDE5-4BB2-ACD9-D51AD648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2BC39-5712-4B72-8415-A1228C7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F20E5-E1E4-4E12-86A9-4C9DE39F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D0DBC-5EA9-4B76-9F70-FBB3FDF1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4D2F8-1B9A-440D-BCBC-B49309DD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A10F1-AD59-4B8D-8DC0-61CD435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299D0-BDD0-4915-A867-CB85C3B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AC596-2C3A-4101-9614-D85C66AD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4592A-C9F1-40F5-AD23-1CB4D915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34925-3FDF-4A00-8830-2E9F3384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5D3-C115-4EC7-BFC9-FF0B1056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82682-C714-4E6D-B1B4-06195807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9D7E4-41EA-4B55-87D4-5EAED05A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2092D-E8A1-47A1-AF20-63A9F61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48D83-76ED-428B-AD75-A8723A25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F18A-8A79-43E7-9FEF-70CFE816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AEE20-1B7C-45BC-AEFD-9F4E467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2378A-526E-4C43-8D63-0A149319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D8BC-D9C2-42B2-981D-EDDF4A7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E746-0489-4947-8F1E-CEE764D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E555-62DA-4432-B8C1-080E76A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F390-11BC-433C-ABDA-50E8B67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92E5-6BED-4F99-A489-7F1AB52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F066-C1D3-4123-93B1-921B6481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D4E8-BC70-4636-BDB1-835B94B1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C346D-587B-4C25-A77A-FE78190C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346A2-2557-4CF8-AB46-9A215136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39989-23D0-4A23-8AF9-E916D84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E9588-5518-4D4E-8149-CC900318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3693A-9BC4-40E9-BE54-69D0F3B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9D78-2A0B-4814-A630-82D0473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026D3-D984-4D4D-BF61-B6302D0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A77-398A-4F9B-8565-D02A2DD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8CE46-BDD5-4AFC-949F-06C87CC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C793D-8B60-4243-A6DC-0EA0D62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7E8C0-6CDE-4084-B308-6526D6E9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2F656-5E2E-419B-9FA4-649D1EE2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D7A07-FE2B-4C8F-BA6F-6D0B6519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9C5AE-58E8-43DA-BFE8-CB83EC37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E3C33-5A20-42D7-93C2-4657009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6BFF8-3E11-455E-94A6-B9C6B78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E8A66-4393-4C1F-A69A-773C70F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5FD33-8A45-4589-BEBD-DFF8E27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731-CEA9-4704-9520-99952364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5D75B-8D7C-4DBD-99E3-1F0FCE5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D7850-717F-4D60-B368-971AB77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8D22C-D6C8-49E3-8F1A-2BDDD32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B15CE-8947-4010-957A-460155E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11885-853E-4079-95E1-4414FDF9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103C5-3E46-4583-8ECC-FEBBF918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D6DD2-11A8-4C78-83C2-C154802E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4714E-83D3-49FE-835C-37C7E8F9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69F7A-0836-48A5-8371-33819F2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965AE-FDDC-42A4-9340-367D4A4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8FDC-0792-4FE0-8DED-BA7E7F6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1BB7B-8D31-4BB4-8F04-71F6FB6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AEB42-B0C8-4982-9BA9-73DE8553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3ABDF-2B23-4797-97A8-E044F63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58292-4E2C-4742-9285-8D8AE02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6C10C-F1AC-45DF-BACB-370212A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A71E6-0149-42B4-AA57-6E0C729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B04D4-C544-40D6-8672-99EC622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13718-7DAD-47B1-88D4-BFA181AA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68263-B600-476A-9D1F-2025964E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605E0-7AAA-4552-94D2-930608F4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9E96-CC01-4119-9C25-229DC48F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69827-038C-4F7C-9EC7-15A2130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A3AA2-1512-4DFF-A959-8917A6C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3843A-5B4B-41B2-B0F7-BC1803F3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94C18-17A7-42A0-8829-65850DC4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BCE3A-6473-4F6B-AA1E-B5D02D4A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AB84C-966C-45C3-BE48-D4BF78E8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915F0-DC6B-4725-8015-8B5C44A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FB8C5-E980-4C0A-B8CF-B2468B0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E00E3-A0AE-4559-BC5C-B5DD1C4E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030D2-6F1B-4306-95EA-25B5623F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6BE8-FA2B-4435-82A1-404C79A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1C97F-A325-4C7B-994B-E5825A05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90161-E624-4750-ADC6-4291F2FE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FCB47-963C-4557-80C1-0B346AFE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359D4-019F-4F65-9E07-D04B9342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46474-CC0E-4F2A-80EC-AE6CAF65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59279-441A-45A4-953C-C83F99D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E147C-E031-4421-AF63-1D7FD96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B364C-A17B-4E1C-8E39-731049D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FC7D0-987B-404E-B870-88AD95F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2EF5D-8AF0-4DB4-9791-580A6825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9E8-65B7-4703-AEB6-BECECFD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32B73-D369-4A5A-A184-0EE5224D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0C01B-A638-4F49-9A5A-8585373D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DEF20-AA54-4CC2-9F59-A008280D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5E59C-93DA-4EA2-A377-38773292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818E6-2B7C-4889-BA6E-4C6EF313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ADC24-0331-46E4-8754-6B61520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C8BC0-37E6-4796-9C0E-35345BEE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B1FBC-D8C8-4954-B5AF-3A4C906B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FCAD1-BA80-46A1-9949-7FE2E925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CBA21-BD84-4590-9B4D-C3A6A40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96E-8ECD-41CF-AB42-63EA87AE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5A0A-A7CA-4EFE-98D6-2C57CFC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03ABF-1AD3-47AB-8233-B928ABA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1D79B-78A7-4412-BD8D-FEFCFFEC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35EE3-EE46-4039-9BCF-BBFB01E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BD34C-01BF-4F08-A09D-BED2E652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6D95F-5E08-4866-B5F2-2C27C235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3D6A9-E011-4C49-A141-1B3713F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ED36A-AA1B-4F37-B14D-A41965E3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EDBEF-2624-490E-9A1A-ADAB75AF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10FCE-BA70-4EA1-A459-F0476FCD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65E90-E0BD-4426-95EC-BB0F8675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BFFB-ADCD-4BD0-8257-69BE2E5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FA839-160B-4463-964B-DF5822B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C977E-603F-4580-B700-7B46C580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EF0FD-FC60-4D19-8122-C84BFD8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A8A72-D0DF-4B25-B860-8AE1E77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340F4-67EC-43F8-A483-CFF8CFB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FA697-76B3-41B3-AD01-FB3582DA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82CC0-07FD-45D9-9691-94E2DEAC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4C546-FAA6-4CB6-B437-29A61D55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8464D-6BDA-4FC5-8E1D-74D5F1C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E036A-AD9C-48CE-864E-44B6C9E7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A95E-6851-4235-B8F3-631C9E7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512A0-6942-459D-853F-A0D44B9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DDF49-E5C3-4D7A-915C-80207FFA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756B6-FB69-4A73-B717-FE2F470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0ABDA-76A0-429C-B925-307C2EB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8F070-8724-4EFB-878C-4260C1E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3A621-9807-4A04-9274-F4605BA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4AACD-12F9-4D28-8B3E-0041CDE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7B9E7-70C9-484E-AEF3-55F8792C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383D1-EB28-4AE2-A8AD-F012FAF9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6991E-064C-4093-A43B-6C4F848F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0FFB-515F-46CB-9390-ACDE0AA8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B7142-40CD-4592-BEB5-50D2644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15BFD-0490-46C8-BF41-2F3AB722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BAD320-9804-4649-8778-F1B602F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B1928-24C4-4FCB-AB6E-C48BCCD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FB742-DA00-4C4D-A81C-31DDC7E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CE292-3F09-4E65-942B-9331932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67FF2-1250-4FFC-B672-33746B30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CAA47-D8DA-49A8-A8D5-EA4ABE1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B5A96-C91F-4C7F-9D50-FBAA4B9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8CB461-C011-4FF4-9813-EA16835E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E78-9001-4499-9DB2-41C9AB09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3D754-FB20-4A7D-9A3F-CD36C035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841A7E-6ACF-4ACF-B78A-51808A6C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B2D6A-EAC8-4128-A83F-C2714AC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5962D-0010-4F38-A1FE-CE551D6C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CC39E-CB06-47CA-B8BC-7550222E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13534-446D-4002-9C32-C94B7C23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A5357-9EC0-4F78-B1E6-254A0428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3D9A3-90E1-4B10-8AD9-5B3F864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90775-56DA-4A40-8F27-6579E53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D147C-54DB-4C84-8456-6A18D49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BE85-564D-4B5F-ABEB-0C6BE17B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0DF91-8A6B-448B-AD0D-C89BC70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8AE36-A860-4A7E-BED5-C8E6DCEF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245D6-4A1A-4F69-8D7D-DCA1F575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6E18-8129-4B90-99F1-AEEAB41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8CB1-B08F-4573-AF3D-CABDA92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FB8F-56DE-44D3-80C9-FFA0C2F8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C36C-3A98-4CC1-8CBA-56AB3A09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739-49C7-4673-AED8-5DC39CC1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90DE-B9F6-4D1E-91BA-26729A7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CF6B-16AF-463C-B42E-F40DCE6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B7A1-1B1F-4EE0-A9E6-534DE7EB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C3FF-5A3E-4DB1-8FDE-A9CAB8FF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D85D-50C9-4AA7-9B26-0532D75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D9D4-F1CD-4BA7-961D-849A97D7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26A5-F45D-4E49-AC93-801B3682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39AC-AFC8-4017-B9A2-BBB1B6CB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E545-AA61-4DFA-A830-70D06C06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66D6-6E97-4CB6-9E9B-B3B09FED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2CF-037B-4B14-B84A-C62315F4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37F3-8048-4C8D-AB94-F5EF2C74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EF4B-0245-42C3-BD2C-0BBA1FA8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8E37-3284-451A-BD4F-9FABA5B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EE9B-09A1-4937-B8CB-EDE05B3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E5AB-6802-44E1-B992-A9E084B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27DB-C93F-4E16-897A-F86675E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A224-B5CF-4139-9A45-4A61C78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A97A-4DBC-4CD3-96B1-B9E4B67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3204-EA94-43C5-A127-DAF633B8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1B07-D057-4C5E-9E4E-C12D9A97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F9B-1A70-4FD4-99ED-EB5F977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8808-EAF1-4ED8-858B-D115591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5B8B-85E7-42C8-81A1-633A69D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892B-69A8-4AC8-A5E5-84E91B5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6789-0B25-490F-BB39-AF684CA8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79AC-49E3-4EBA-B45C-0649BB0D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C2A4-96C9-4F8D-857E-09BF732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9419-8DED-4D34-AD03-6F1D3E2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FCFA-BAA4-43A4-821E-62E5AEA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39C3-2611-47A5-A864-E8544333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34BF-5086-43A4-9567-BDE06CB8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31C-F9E3-4DF7-B279-550C38AE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B6DE7-4303-4256-BD67-AF84B0DE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CBDC-9770-4056-801E-EB35A0BC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0F14D-1783-4983-BFD8-6ACCD27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5F80-FB22-47ED-BF2F-FD3A8BB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D720-7B27-4226-AE1B-D437E716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F9EE-FD2F-4EA8-98B9-A8A9EC1C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85D4-AA96-4FF3-A24C-88F1ED1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3C367-4CF8-414C-BC3E-D21F5BF8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A37B7-4FEA-4B39-AFCC-3B3EEF2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A7853-B8F3-4182-86AE-CF988A07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52A-16DE-4E69-88D3-DA9C998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35C93-2F47-4DC2-8809-9D1CBABD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6F5D-0B19-4D67-AA18-2D81209C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2C6F-0AFA-4D72-A415-88113156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6B6E-F4A3-4964-9D12-92D2BA4D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7F6F2-83FE-4BA5-99C2-97B20152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7829-F700-4321-A97D-B58F454E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9F3E7-9705-4281-BCF8-FB120AB3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EC236-877A-49E8-A6BB-1CD7DCA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824F8-0B30-45B7-B6ED-F0D656E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6524-ACD3-4444-8E09-86C7E5D1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B62-6227-49EE-A2E5-CFF258C9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451CB-8650-4CF0-9A22-8FD7B7E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069E-ECB2-4845-8F30-199CA65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C47B-1E56-489E-9925-B9D0C8A6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1C30-C5EA-4B3F-AD99-E929C551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9887-0178-40BB-88BA-D8352C33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20908-BFCF-480A-98E5-F6298C44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C33F-13DE-4701-A29B-40876FC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A1FE-D0CB-46C4-B977-46974A49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6DE5-5F34-4FDF-938D-1BAD4B5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0962-EC78-49FB-BBF9-F99DBAE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C57-1ECC-4CFD-8426-6D30A16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EF878-0AB2-4677-A299-67DD2E9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1BADD-F920-416B-B903-8E09D34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473D3-EDD5-4E49-9C28-3F92619F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26BD-61F1-47E1-8F0A-1DD22BA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015B-04E3-4A8F-8273-32975A5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E5D3-E3A2-4ED2-A82D-33223430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76677-1C77-4189-8C47-C95BB320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E88F-E5CB-4F23-8837-68F69612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50BFE-E32F-4B58-BE3D-13E3E64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98A4D-FA13-4B49-8FDE-0D54CA5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5F53-7BE3-4FCC-A829-653536800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8972-F912-437A-9065-52FE3EADD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85BE-489A-49CF-8045-68453FC62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4AF5-B860-48D0-835B-9440E846B6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E3E7-A8D1-47A2-B54D-59E59DB9E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D03-90F1-4071-ADBF-00F233EFAA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D77-387D-4E9D-B4D4-93480B4C4A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52F8-1E04-4AD6-8B64-B95AB4C67C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990-E0E3-45B3-A118-7AF4D3D2E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40D-FE12-46CF-B044-080547C91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F75B-820F-4167-BD66-BC147DE8A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785-F85E-455F-AE14-C334BECDF6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A2E-D30B-4C26-875C-F8AEFE706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9BD-D56B-45A6-B623-AD3AD71C6D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039D-7C1A-41D7-9F02-601D4BDB08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94BE-05F4-4189-90FA-679EDC474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5C9D-C0B4-44B5-BEE1-59D68F202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99D1-F8C1-48DA-BF36-A7844B11E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DE23-01B9-46B8-B599-6F15C6BFC2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0A4-EE44-4079-9B30-47C6FC9A2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F7C-F01B-4752-883E-93782935C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103-90D6-4731-8E71-049D3D26F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835-5CD7-4B64-BC39-CF200B73C7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B27-4445-4EA3-AD46-14470DA5E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1C0-214D-46E1-9CB4-B983B5A2D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1785-9937-4F28-B366-02C520C47A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90F-485E-4339-9D3E-E6D63AFB1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F7C5-2743-434A-8398-799E83AE35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4E4-6098-4E95-919F-2AA725C99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1CF3-0EEC-41E3-B29C-9C87C1037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A542-40EC-47EB-B367-9A6F32DEE2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EE24-AC70-4E08-B69D-231D4A1882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5CE4-E879-44F3-94A3-2854A28A88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8F2A-1364-4861-8D6B-60F1DAB88F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30A-7115-44D2-B115-324FEB7AD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71D-E50A-4703-94AD-15721ED75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5CE-AB20-49B4-910A-8FD91E5D42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8843-F686-421E-9BAD-449D3CEDF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F65C-59E2-484E-A301-F26DC7A0A7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5ACA-DC95-41E0-A5A6-74C6B0559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34360" cy="132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819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47640" y="853920"/>
            <a:ext cx="784872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563400"/>
            <a:ext cx="7896240" cy="610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7236000" y="62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1476360" y="1211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796000" y="11970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4859280" y="180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7307280" y="1873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1476360" y="243540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5796000" y="2449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485928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7307280" y="31114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2"/>
          <a:stretch/>
        </p:blipFill>
        <p:spPr>
          <a:xfrm>
            <a:off x="1476360" y="36734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3"/>
          <a:stretch/>
        </p:blipFill>
        <p:spPr>
          <a:xfrm>
            <a:off x="5651640" y="37306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4"/>
          <a:stretch/>
        </p:blipFill>
        <p:spPr>
          <a:xfrm>
            <a:off x="4788000" y="4336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5"/>
          <a:stretch/>
        </p:blipFill>
        <p:spPr>
          <a:xfrm>
            <a:off x="7236000" y="4408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6"/>
          <a:stretch/>
        </p:blipFill>
        <p:spPr>
          <a:xfrm>
            <a:off x="1405080" y="4970520"/>
            <a:ext cx="86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7"/>
          <a:stretch/>
        </p:blipFill>
        <p:spPr>
          <a:xfrm>
            <a:off x="5724360" y="49849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8"/>
          <a:stretch/>
        </p:blipFill>
        <p:spPr>
          <a:xfrm>
            <a:off x="4427640" y="55897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9"/>
          <a:stretch/>
        </p:blipFill>
        <p:spPr>
          <a:xfrm>
            <a:off x="2050920" y="62373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500040" y="552600"/>
            <a:ext cx="81439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633240" y="271440"/>
            <a:ext cx="7877520" cy="6315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392436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01200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451640" y="1052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643280" y="1773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37800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86728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7423200" y="2492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454356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4859280" y="39625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7164360" y="3933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176364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651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4716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7164360" y="5445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1835280" y="616572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6443640" y="6165720"/>
            <a:ext cx="72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6325" descr=""/>
          <p:cNvPicPr/>
          <p:nvPr/>
        </p:nvPicPr>
        <p:blipFill>
          <a:blip r:embed="rId1"/>
          <a:stretch/>
        </p:blipFill>
        <p:spPr>
          <a:xfrm>
            <a:off x="309600" y="923760"/>
            <a:ext cx="85248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5300" descr=""/>
          <p:cNvPicPr/>
          <p:nvPr/>
        </p:nvPicPr>
        <p:blipFill>
          <a:blip r:embed="rId1"/>
          <a:stretch/>
        </p:blipFill>
        <p:spPr>
          <a:xfrm>
            <a:off x="557280" y="857160"/>
            <a:ext cx="8029440" cy="566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7380360" y="907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176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443640" y="162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14836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7308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154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6227640" y="30686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514836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7308720" y="3817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1547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3"/>
          <a:stretch/>
        </p:blipFill>
        <p:spPr>
          <a:xfrm>
            <a:off x="6443640" y="45370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4"/>
          <a:stretch/>
        </p:blipFill>
        <p:spPr>
          <a:xfrm>
            <a:off x="516420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5"/>
          <a:stretch/>
        </p:blipFill>
        <p:spPr>
          <a:xfrm>
            <a:off x="7324560" y="5259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6"/>
          <a:stretch/>
        </p:blipFill>
        <p:spPr>
          <a:xfrm>
            <a:off x="1563840" y="597852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7"/>
          <a:stretch/>
        </p:blipFill>
        <p:spPr>
          <a:xfrm>
            <a:off x="6156360" y="597852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54276" descr=""/>
          <p:cNvPicPr/>
          <p:nvPr/>
        </p:nvPicPr>
        <p:blipFill>
          <a:blip r:embed="rId1"/>
          <a:stretch/>
        </p:blipFill>
        <p:spPr>
          <a:xfrm>
            <a:off x="390600" y="3579840"/>
            <a:ext cx="8362800" cy="200988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5427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715080" cy="2000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284720" y="138420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4284720" y="23050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7294680" y="137016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624800" y="23353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83528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1979640" y="47242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4932360" y="374508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5148360" y="46674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8101080" y="376092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101080" y="469584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42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